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F7A-11A7-4A3F-BCCA-785D14C0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983-15EA-4800-A50F-25C89F99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FFB-2F71-4BBD-B9C2-EFC5D365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EAD-4AA2-4230-AC4F-D0EEA8BB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F010-68E8-43DE-8BFC-03BDC966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00D9-3FD3-4CE8-A646-4E077ED8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5F89-6771-40CE-8E6D-136690F4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865F-B152-4DAF-97D1-B399C135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8798-7715-468F-9375-9D1E2E8C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ABB4-3F6C-4990-BC52-67360070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FD8C-C251-4E51-8209-7390FD29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332-88BB-4312-890C-DD8E956D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9017-65AD-4EE6-83BA-F9152D4D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5D16-364A-42ED-89A4-8D6CF7E1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18C1-B69D-4DC2-9EA5-A52ED3F5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6C5A-192E-427A-B5F3-6347CC96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64C9-D457-4545-888C-2A2ADC6B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544-9E38-4A3A-8EB2-47A0E817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905-15C3-421F-A953-895B65A7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724-82B5-4EE8-ACEC-B2F8E3C2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5B1-7833-4924-BE7C-43417117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8DB-DB70-4CED-BF35-F3FCBC1B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326-2BC9-482C-B934-1B0E3D7E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947-5931-469F-A8B8-3488FF4B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944D-884B-49F8-A4DB-F702DABE684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9879-1EAF-4743-9A55-BA490AC7B11C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reating and Maintaining Positive Relationships at Work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6. Listen to body messag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ear is the beginning of wisd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7. Develop a plan to get hel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An ounce of prevention is worth a pound of c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Scamm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o be prepared for war is one of the most effectual means of preserving pe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George Washing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8. Get a gri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ink before you spe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William Shakespe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9. Be selective when spea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open a can of w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10. Recognize enemies and dissenter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 me once shame on you, fool me twice, shame on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1. Speak Softl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peak softly and carry a big sti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Teddy Rooseve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2. Develop listening skil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sten, don’t just h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3. Utilize credible witnes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ere is strength in nu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4. Remain Detach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ticks and stones may break my bones, but names will never hurt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Mother Go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5. Move 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cry over split mi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Andrew Yaman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spit into the w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Jim Cro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let your heart rule your h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Garamond"/>
              </a:rPr>
              <a:t>Ideas taken from Life would be easy if it weren't for other peopl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ne Take on the Basics of Communica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4038480" cy="2263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o achieve mutually satisfying solutions, honour positive relationships and foster respect. (assert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0" y="1600200"/>
          <a:ext cx="4114800" cy="22860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avoids confrontation, criticism and complaints at all costs – tends to avoid getting involved or taking action.   (pa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57200" y="3938760"/>
          <a:ext cx="4038480" cy="2358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uses manipulation e.g. whining, yelling, pouting, screaming, complaining, crying, getting one’s feelings hur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572000" y="3962520"/>
          <a:ext cx="4114800" cy="23590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designed to pay someone back or teach someone a lesson – avoids confrontation but uses manipulation to get ev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passive-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Red, Yellow, Green Card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onviolent Communic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so called Compassionate Communication, Mindful Communication, Conscious Communication, Authentic Communic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oal is to generate a climate where everyone’s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need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considered equal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when there is an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intentio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make a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onne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means we may choose not to use it in certain interac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sic Premises of NVC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humans have the same needs, and all we are ever trying to do, with our words and actions, is to have those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are fundamentally compassionate, but we have been trained to appreciate “violence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person is responsible for their feelings, as they are born out of their own needs. Each person is responsible for getting their own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possible to express ourselves authentically and remain respectful of oth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NVC Proc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the facts (actions, words, gestures) that trigger a reaction in you. NOT interpretations, evaluations, labels…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FEELING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Your reaction to the observations creates feelings in you. All feelings are linked to a need.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NEED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- Identify the need that is linked to the feeling. Needs are universal, intangible, and intrinsic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REQUEST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state how you will take charge of meeting your needs, without making demands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-way Intention to Conne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thentic Express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mpathic Listen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acti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ualize heading into the same old fight with your partner or a family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ifficult conversation with a parent of a stu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hronic issue you have with a collea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5 steps To Poor Listen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 strategy 12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ckpot! Read article and be ready to answer 5 questions about the arti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Teaching Compulsory Cour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Teaching compulsory courses is no different from teaching other electives.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4-corners: strongly agree, somewhat agree, somewhat disagree, strongly disag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Go to your corner and compile and chart a list of reasons, and/or examples in your group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Post your list, then we will all do a walk about and consider the other viewpoi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me of my best advice about working in a new (to you) school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serve and listen to the school culture, reflect on what you can learn from it and how you can contrib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willing to do more following than leading in your first year but don’t be a leech – contribute positively to your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a colleague (it doesn’t have to be in your school) to whom you can turn when you have questions or want to reflect on a sit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15 Most often used strategies when managing situation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609480" y="175248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Forewarned is forearm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erv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Knowledge is p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Francis Bac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85800" y="6858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. Gather Pertinent Infor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ls rush in where angels fear to tr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lexander P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ing is everyth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George Bu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889280" y="658800"/>
            <a:ext cx="51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2. Defer A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3. Refuse to be bait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two to make a f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s bite one another, but wise men agree toge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George Herbe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4. Compile a list of positive responses to use during uncomfortable discussions</a:t>
            </a: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Honey catches more flies than vineg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Franklin Praimana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5. Learn to apologiz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a big person to say “I’m sorr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3:18:45Z</dcterms:created>
  <dc:creator>jpittlainsbury</dc:creator>
  <dc:description/>
  <dc:language>en-US</dc:language>
  <cp:lastModifiedBy>jpittlainsbury</cp:lastModifiedBy>
  <dcterms:modified xsi:type="dcterms:W3CDTF">2010-08-23T00:30:31Z</dcterms:modified>
  <cp:revision>22</cp:revision>
  <dc:subject/>
  <dc:title>Creating and Maintaining Positive Relationships at Work</dc:title>
</cp:coreProperties>
</file>